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907588" cy="6858000"/>
  <p:notesSz cx="6727825" cy="9717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192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4452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936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192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64452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93680" y="-360"/>
            <a:ext cx="9537840" cy="52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192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64452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936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192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64452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93680" y="-360"/>
            <a:ext cx="9537840" cy="52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114960"/>
            <a:ext cx="9907560" cy="743040"/>
            <a:chOff x="0" y="6114960"/>
            <a:chExt cx="9907560" cy="743040"/>
          </a:xfrm>
        </p:grpSpPr>
        <p:sp>
          <p:nvSpPr>
            <p:cNvPr id="1" name=""/>
            <p:cNvSpPr/>
            <p:nvPr/>
          </p:nvSpPr>
          <p:spPr>
            <a:xfrm>
              <a:off x="0" y="6114960"/>
              <a:ext cx="9905760" cy="74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8443800" y="6114960"/>
              <a:ext cx="1463760" cy="743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6cc"/>
                </a:solidFill>
                <a:latin typeface="Nokia Large"/>
              </a:rPr>
              <a:t>Click to edit the title text format</a:t>
            </a: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2240" indent="-19224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2" marL="1147680" indent="-19512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3" marL="1712880" indent="-18576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4" marL="2193840" indent="-18900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5" marL="2193840" indent="-189000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6" marL="2193840" indent="-189000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223560" y="6524640"/>
            <a:ext cx="4235400" cy="1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  <a:defRPr b="0" sz="800" spc="-1" strike="noStrike">
                <a:solidFill>
                  <a:srgbClr val="000000"/>
                </a:solidFill>
                <a:latin typeface="Nokia Sans Wide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fld id="{6A73ABB7-9DAB-479A-AE11-44D4512243F6}" type="slidenum">
              <a:rPr b="0" sz="800" spc="-1" strike="noStrike">
                <a:solidFill>
                  <a:srgbClr val="000000"/>
                </a:solidFill>
                <a:latin typeface="Nokia Sans Wide"/>
              </a:rPr>
              <a:t>&lt;number&gt;</a:t>
            </a:fld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      © 2005  Nokia 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	</a:t>
            </a:r>
            <a:r>
              <a:rPr b="0" lang="fi-FI" sz="800" spc="-1" strike="noStrike">
                <a:solidFill>
                  <a:srgbClr val="000000"/>
                </a:solidFill>
                <a:latin typeface="Nokia Sans Wide"/>
              </a:rPr>
              <a:t>V1-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Filename.ppt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yyyy-mm-dd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Initial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14200" y="6216480"/>
            <a:ext cx="304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Compan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-3240"/>
            <a:ext cx="9910800" cy="685800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85760" y="120240"/>
            <a:ext cx="70992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Nokia Large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Nokia Large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0" y="6114960"/>
            <a:ext cx="9906120" cy="743040"/>
            <a:chOff x="0" y="6114960"/>
            <a:chExt cx="9906120" cy="743040"/>
          </a:xfrm>
        </p:grpSpPr>
        <p:sp>
          <p:nvSpPr>
            <p:cNvPr id="46" name=""/>
            <p:cNvSpPr/>
            <p:nvPr/>
          </p:nvSpPr>
          <p:spPr>
            <a:xfrm>
              <a:off x="0" y="6114960"/>
              <a:ext cx="9906120" cy="74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7" name="" descr=""/>
            <p:cNvPicPr/>
            <p:nvPr/>
          </p:nvPicPr>
          <p:blipFill>
            <a:blip r:embed="rId2"/>
            <a:stretch/>
          </p:blipFill>
          <p:spPr>
            <a:xfrm>
              <a:off x="8442360" y="6114960"/>
              <a:ext cx="1463760" cy="743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2"/>
          <p:cNvSpPr>
            <a:spLocks noGrp="1"/>
          </p:cNvSpPr>
          <p:nvPr>
            <p:ph type="ftr" idx="2"/>
          </p:nvPr>
        </p:nvSpPr>
        <p:spPr>
          <a:xfrm>
            <a:off x="213840" y="6524640"/>
            <a:ext cx="4235400" cy="1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  <a:defRPr b="0" sz="800" spc="-1" strike="noStrike">
                <a:solidFill>
                  <a:srgbClr val="000000"/>
                </a:solidFill>
                <a:latin typeface="Nokia Sans Wide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fld id="{419D13D9-4124-44D9-A401-A56BD3A954BF}" type="slidenum">
              <a:rPr b="0" sz="800" spc="-1" strike="noStrike">
                <a:solidFill>
                  <a:srgbClr val="000000"/>
                </a:solidFill>
                <a:latin typeface="Nokia Sans Wide"/>
              </a:rPr>
              <a:t>&lt;number&gt;</a:t>
            </a:fld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      © 2005  Nokia 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	</a:t>
            </a:r>
            <a:r>
              <a:rPr b="0" lang="fi-FI" sz="800" spc="-1" strike="noStrike">
                <a:solidFill>
                  <a:srgbClr val="000000"/>
                </a:solidFill>
                <a:latin typeface="Nokia Sans Wide"/>
              </a:rPr>
              <a:t>V1-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Filename.ppt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yyyy-mm-dd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Initial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04840" y="6216480"/>
            <a:ext cx="304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Compan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16000" y="4006800"/>
            <a:ext cx="272880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8" name=""/>
          <p:cNvSpPr/>
          <p:nvPr/>
        </p:nvSpPr>
        <p:spPr>
          <a:xfrm>
            <a:off x="5045040" y="1322280"/>
            <a:ext cx="9525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cac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937320" y="1963800"/>
            <a:ext cx="847440" cy="36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glob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12360" y="1954080"/>
            <a:ext cx="676800" cy="36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lo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1" name=""/>
          <p:cNvCxnSpPr>
            <a:stCxn id="88" idx="1"/>
            <a:endCxn id="89" idx="0"/>
          </p:cNvCxnSpPr>
          <p:nvPr/>
        </p:nvCxnSpPr>
        <p:spPr>
          <a:xfrm flipV="1" rot="10800000">
            <a:off x="4361040" y="1503720"/>
            <a:ext cx="684360" cy="4604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8" idx="3"/>
            <a:endCxn id="90" idx="0"/>
          </p:cNvCxnSpPr>
          <p:nvPr/>
        </p:nvCxnSpPr>
        <p:spPr>
          <a:xfrm>
            <a:off x="5997600" y="1503720"/>
            <a:ext cx="353520" cy="4507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2943000" y="2827440"/>
            <a:ext cx="4503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f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844440" y="2828880"/>
            <a:ext cx="90900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684040" y="2817720"/>
            <a:ext cx="95832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mu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996960" y="2809800"/>
            <a:ext cx="76068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f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" name=""/>
          <p:cNvCxnSpPr>
            <a:stCxn id="89" idx="2"/>
            <a:endCxn id="93" idx="0"/>
          </p:cNvCxnSpPr>
          <p:nvPr/>
        </p:nvCxnSpPr>
        <p:spPr>
          <a:xfrm rot="5400000">
            <a:off x="3514320" y="1981080"/>
            <a:ext cx="500760" cy="1193040"/>
          </a:xfrm>
          <a:prstGeom prst="curvedConnector3">
            <a:avLst>
              <a:gd name="adj1" fmla="val 248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8" name=""/>
          <p:cNvCxnSpPr>
            <a:stCxn id="89" idx="2"/>
            <a:endCxn id="94" idx="0"/>
          </p:cNvCxnSpPr>
          <p:nvPr/>
        </p:nvCxnSpPr>
        <p:spPr>
          <a:xfrm rot="5400000">
            <a:off x="4079160" y="2547000"/>
            <a:ext cx="502200" cy="62280"/>
          </a:xfrm>
          <a:prstGeom prst="curvedConnector3">
            <a:avLst>
              <a:gd name="adj1" fmla="val 248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9" name=""/>
          <p:cNvCxnSpPr>
            <a:stCxn id="90" idx="2"/>
            <a:endCxn id="95" idx="0"/>
          </p:cNvCxnSpPr>
          <p:nvPr/>
        </p:nvCxnSpPr>
        <p:spPr>
          <a:xfrm rot="5400000">
            <a:off x="6006600" y="2473920"/>
            <a:ext cx="500760" cy="187920"/>
          </a:xfrm>
          <a:prstGeom prst="curvedConnector3">
            <a:avLst>
              <a:gd name="adj1" fmla="val 248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0" idx="2"/>
            <a:endCxn id="96" idx="0"/>
          </p:cNvCxnSpPr>
          <p:nvPr/>
        </p:nvCxnSpPr>
        <p:spPr>
          <a:xfrm flipH="1" rot="16200000">
            <a:off x="6617880" y="2050200"/>
            <a:ext cx="492840" cy="1027080"/>
          </a:xfrm>
          <a:prstGeom prst="curvedConnector3">
            <a:avLst>
              <a:gd name="adj1" fmla="val 2492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1" name=""/>
          <p:cNvSpPr/>
          <p:nvPr/>
        </p:nvSpPr>
        <p:spPr>
          <a:xfrm>
            <a:off x="1889280" y="3622680"/>
            <a:ext cx="109008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nok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229920" y="3651120"/>
            <a:ext cx="154260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symbi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005800" y="3670200"/>
            <a:ext cx="109008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nok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4" name=""/>
          <p:cNvCxnSpPr>
            <a:stCxn id="93" idx="4"/>
            <a:endCxn id="101" idx="0"/>
          </p:cNvCxnSpPr>
          <p:nvPr/>
        </p:nvCxnSpPr>
        <p:spPr>
          <a:xfrm rot="5400000">
            <a:off x="2660040" y="3114720"/>
            <a:ext cx="282600" cy="73440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"/>
          <p:cNvCxnSpPr>
            <a:stCxn id="94" idx="4"/>
            <a:endCxn id="102" idx="0"/>
          </p:cNvCxnSpPr>
          <p:nvPr/>
        </p:nvCxnSpPr>
        <p:spPr>
          <a:xfrm rot="5400000">
            <a:off x="3995280" y="3347640"/>
            <a:ext cx="309600" cy="298080"/>
          </a:xfrm>
          <a:prstGeom prst="curvedConnector3">
            <a:avLst>
              <a:gd name="adj1" fmla="val 24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"/>
          <p:cNvCxnSpPr>
            <a:stCxn id="94" idx="4"/>
            <a:endCxn id="103" idx="0"/>
          </p:cNvCxnSpPr>
          <p:nvPr/>
        </p:nvCxnSpPr>
        <p:spPr>
          <a:xfrm flipH="1" rot="16200000">
            <a:off x="4760640" y="2880000"/>
            <a:ext cx="328680" cy="125208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1277280" y="43848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634480" y="511668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836160" y="51228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84160" y="508644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903360" y="36990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395400" y="36990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883160" y="4375080"/>
            <a:ext cx="678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609280" y="4392720"/>
            <a:ext cx="10191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ww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49120" y="4400640"/>
            <a:ext cx="10191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ww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069880" y="4389480"/>
            <a:ext cx="10191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ww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7" name=""/>
          <p:cNvCxnSpPr>
            <a:stCxn id="101" idx="4"/>
            <a:endCxn id="107" idx="0"/>
          </p:cNvCxnSpPr>
          <p:nvPr/>
        </p:nvCxnSpPr>
        <p:spPr>
          <a:xfrm rot="5400000">
            <a:off x="1846800" y="3797640"/>
            <a:ext cx="249480" cy="92592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" name=""/>
          <p:cNvCxnSpPr>
            <a:stCxn id="101" idx="4"/>
            <a:endCxn id="113" idx="0"/>
          </p:cNvCxnSpPr>
          <p:nvPr/>
        </p:nvCxnSpPr>
        <p:spPr>
          <a:xfrm rot="5400000">
            <a:off x="2208600" y="4149360"/>
            <a:ext cx="239760" cy="212040"/>
          </a:xfrm>
          <a:prstGeom prst="curvedConnector3">
            <a:avLst>
              <a:gd name="adj1" fmla="val 2496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01" idx="4"/>
            <a:endCxn id="114" idx="0"/>
          </p:cNvCxnSpPr>
          <p:nvPr/>
        </p:nvCxnSpPr>
        <p:spPr>
          <a:xfrm flipH="1" rot="16200000">
            <a:off x="2648160" y="3921840"/>
            <a:ext cx="257400" cy="685080"/>
          </a:xfrm>
          <a:prstGeom prst="curvedConnector3">
            <a:avLst>
              <a:gd name="adj1" fmla="val 250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4" idx="4"/>
            <a:endCxn id="108" idx="0"/>
          </p:cNvCxnSpPr>
          <p:nvPr/>
        </p:nvCxnSpPr>
        <p:spPr>
          <a:xfrm rot="5400000">
            <a:off x="2886840" y="4884840"/>
            <a:ext cx="211320" cy="253440"/>
          </a:xfrm>
          <a:prstGeom prst="curvedConnector3">
            <a:avLst>
              <a:gd name="adj1" fmla="val 2508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1" name=""/>
          <p:cNvCxnSpPr>
            <a:stCxn id="115" idx="4"/>
            <a:endCxn id="109" idx="0"/>
          </p:cNvCxnSpPr>
          <p:nvPr/>
        </p:nvCxnSpPr>
        <p:spPr>
          <a:xfrm rot="5400000">
            <a:off x="4108320" y="4872600"/>
            <a:ext cx="209520" cy="291600"/>
          </a:xfrm>
          <a:prstGeom prst="curvedConnector3">
            <a:avLst>
              <a:gd name="adj1" fmla="val 2495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" name=""/>
          <p:cNvCxnSpPr>
            <a:stCxn id="102" idx="4"/>
            <a:endCxn id="115" idx="0"/>
          </p:cNvCxnSpPr>
          <p:nvPr/>
        </p:nvCxnSpPr>
        <p:spPr>
          <a:xfrm flipH="1" rot="16200000">
            <a:off x="4061880" y="4103280"/>
            <a:ext cx="236880" cy="357840"/>
          </a:xfrm>
          <a:prstGeom prst="curvedConnector3">
            <a:avLst>
              <a:gd name="adj1" fmla="val 2496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03" idx="4"/>
            <a:endCxn id="116" idx="0"/>
          </p:cNvCxnSpPr>
          <p:nvPr/>
        </p:nvCxnSpPr>
        <p:spPr>
          <a:xfrm flipH="1" rot="16200000">
            <a:off x="5462280" y="4271760"/>
            <a:ext cx="206640" cy="29160"/>
          </a:xfrm>
          <a:prstGeom prst="curvedConnector3">
            <a:avLst>
              <a:gd name="adj1" fmla="val 2495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" name=""/>
          <p:cNvCxnSpPr>
            <a:stCxn id="116" idx="4"/>
            <a:endCxn id="110" idx="0"/>
          </p:cNvCxnSpPr>
          <p:nvPr/>
        </p:nvCxnSpPr>
        <p:spPr>
          <a:xfrm flipH="1" rot="16200000">
            <a:off x="5505840" y="4976280"/>
            <a:ext cx="184320" cy="36360"/>
          </a:xfrm>
          <a:prstGeom prst="curvedConnector3">
            <a:avLst>
              <a:gd name="adj1" fmla="val 2485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95" idx="4"/>
            <a:endCxn id="112" idx="0"/>
          </p:cNvCxnSpPr>
          <p:nvPr/>
        </p:nvCxnSpPr>
        <p:spPr>
          <a:xfrm flipH="1" rot="16200000">
            <a:off x="6211080" y="3282840"/>
            <a:ext cx="368640" cy="464040"/>
          </a:xfrm>
          <a:prstGeom prst="curvedConnector3">
            <a:avLst>
              <a:gd name="adj1" fmla="val 2492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6" name=""/>
          <p:cNvCxnSpPr>
            <a:stCxn id="96" idx="4"/>
            <a:endCxn id="111" idx="0"/>
          </p:cNvCxnSpPr>
          <p:nvPr/>
        </p:nvCxnSpPr>
        <p:spPr>
          <a:xfrm rot="5400000">
            <a:off x="7067880" y="3389400"/>
            <a:ext cx="376560" cy="243000"/>
          </a:xfrm>
          <a:prstGeom prst="curvedConnector3">
            <a:avLst>
              <a:gd name="adj1" fmla="val 24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7565760" y="3668760"/>
            <a:ext cx="108360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AA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8" name=""/>
          <p:cNvCxnSpPr>
            <a:stCxn id="96" idx="4"/>
            <a:endCxn id="127" idx="0"/>
          </p:cNvCxnSpPr>
          <p:nvPr/>
        </p:nvCxnSpPr>
        <p:spPr>
          <a:xfrm flipH="1" rot="16200000">
            <a:off x="7569720" y="3130560"/>
            <a:ext cx="346320" cy="730440"/>
          </a:xfrm>
          <a:prstGeom prst="curvedConnector3">
            <a:avLst>
              <a:gd name="adj1" fmla="val 2497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9" name=""/>
          <p:cNvCxnSpPr>
            <a:stCxn id="107" idx="6"/>
            <a:endCxn id="113" idx="2"/>
          </p:cNvCxnSpPr>
          <p:nvPr/>
        </p:nvCxnSpPr>
        <p:spPr>
          <a:xfrm flipV="1">
            <a:off x="1740240" y="4631760"/>
            <a:ext cx="143280" cy="100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0" name=""/>
          <p:cNvCxnSpPr>
            <a:stCxn id="113" idx="6"/>
            <a:endCxn id="108" idx="1"/>
          </p:cNvCxnSpPr>
          <p:nvPr/>
        </p:nvCxnSpPr>
        <p:spPr>
          <a:xfrm>
            <a:off x="2562120" y="4631760"/>
            <a:ext cx="140400" cy="560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1" name=""/>
          <p:cNvCxnSpPr>
            <a:stCxn id="108" idx="6"/>
            <a:endCxn id="109" idx="2"/>
          </p:cNvCxnSpPr>
          <p:nvPr/>
        </p:nvCxnSpPr>
        <p:spPr>
          <a:xfrm>
            <a:off x="3097440" y="5373360"/>
            <a:ext cx="739080" cy="64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2" name=""/>
          <p:cNvCxnSpPr>
            <a:stCxn id="109" idx="6"/>
            <a:endCxn id="110" idx="2"/>
          </p:cNvCxnSpPr>
          <p:nvPr/>
        </p:nvCxnSpPr>
        <p:spPr>
          <a:xfrm flipV="1">
            <a:off x="4299120" y="5343120"/>
            <a:ext cx="1085400" cy="367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3" name=""/>
          <p:cNvCxnSpPr>
            <a:stCxn id="110" idx="6"/>
            <a:endCxn id="112" idx="3"/>
          </p:cNvCxnSpPr>
          <p:nvPr/>
        </p:nvCxnSpPr>
        <p:spPr>
          <a:xfrm flipV="1">
            <a:off x="5847120" y="4137120"/>
            <a:ext cx="616320" cy="120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4" name=""/>
          <p:cNvCxnSpPr>
            <a:stCxn id="112" idx="6"/>
            <a:endCxn id="111" idx="2"/>
          </p:cNvCxnSpPr>
          <p:nvPr/>
        </p:nvCxnSpPr>
        <p:spPr>
          <a:xfrm>
            <a:off x="6858360" y="3955680"/>
            <a:ext cx="45360" cy="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5" name=""/>
          <p:cNvCxnSpPr>
            <a:stCxn id="111" idx="6"/>
            <a:endCxn id="127" idx="2"/>
          </p:cNvCxnSpPr>
          <p:nvPr/>
        </p:nvCxnSpPr>
        <p:spPr>
          <a:xfrm flipV="1">
            <a:off x="7366320" y="3925440"/>
            <a:ext cx="199800" cy="3060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36" name=""/>
          <p:cNvSpPr/>
          <p:nvPr/>
        </p:nvSpPr>
        <p:spPr>
          <a:xfrm>
            <a:off x="6610680" y="4834080"/>
            <a:ext cx="4770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lr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 flipV="1">
            <a:off x="6273720" y="4508280"/>
            <a:ext cx="408240" cy="37116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8T10:00:16Z</dcterms:created>
  <dc:creator>Juha Leppilahti</dc:creator>
  <dc:description/>
  <cp:keywords/>
  <dc:language>en-US</dc:language>
  <cp:lastModifiedBy>Juha Leppilahti</cp:lastModifiedBy>
  <cp:lastPrinted>1998-09-04T08:04:32Z</cp:lastPrinted>
  <dcterms:modified xsi:type="dcterms:W3CDTF">2006-03-27T11:05:05Z</dcterms:modified>
  <cp:revision>3</cp:revision>
  <dc:subject>Nokia PowerPoint template 2005</dc:subject>
  <dc:title>Slide 1</dc:title>
</cp:coreProperties>
</file>